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7A7-FF17-405E-AFD9-6DE70F8E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AD01-8A2F-464C-95C1-486AFEAF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BEA-092C-4ED1-B68D-8F386446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BA4-FDE1-45FB-B55F-E8EAA76B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80EC-0AFD-4C9A-9252-9370BC17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7B32-A94B-4E23-83F5-842E2A74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2024-ACCF-42C9-A14C-A19016D1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1637-C789-4A6C-9F5B-31BDA8F0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44DF-E118-4180-A7CE-3D0CCE3C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4CB0-B610-426F-AE1F-D928BD6D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7FD3-87E5-4F96-8764-FA528A65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8CF-F622-4FCD-9FA4-BF387AAA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3DE6-DC70-4DB7-9F58-FB68674D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2203-2D61-4E62-9E1C-E772C8EB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926A-7881-4D41-865B-5C653F82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955D-32A9-4121-BE58-3D813427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5616-9D1F-47BA-A3BB-CFED19C7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5D1B-A94E-4A03-A273-683ADCD1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6F6A-FBAE-4761-93E4-E6F2535C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0FA-9CDE-43EE-81A3-3418ED03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9442-5D60-4A2C-96BC-1A469CCA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6463-8AE5-4488-85A5-70792943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A5F5-6B3E-4616-8856-C7042065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1A5-11B6-4C81-A953-8D742167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ECA4-E3D4-4431-A6B0-D588003CF0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9A92-A88F-416B-B562-C9D9075A31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00000" y="907920"/>
            <a:ext cx="5472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машние питомцы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99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240000" cy="2023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Картинка 61 из 189825"/>
          <p:cNvPicPr/>
          <p:nvPr/>
        </p:nvPicPr>
        <p:blipFill>
          <a:blip r:embed="rId2"/>
          <a:stretch/>
        </p:blipFill>
        <p:spPr>
          <a:xfrm>
            <a:off x="4067280" y="2781360"/>
            <a:ext cx="3409920" cy="2557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Картинка 87 из 189825"/>
          <p:cNvPicPr/>
          <p:nvPr/>
        </p:nvPicPr>
        <p:blipFill>
          <a:blip r:embed="rId3"/>
          <a:stretch/>
        </p:blipFill>
        <p:spPr>
          <a:xfrm>
            <a:off x="900000" y="4365720"/>
            <a:ext cx="28735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6729"/>
                </a:solidFill>
                <a:latin typeface="Arial"/>
              </a:rPr>
              <a:t>Собаки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196" name="" descr="Картинка 37 из 189825"/>
          <p:cNvPicPr/>
          <p:nvPr/>
        </p:nvPicPr>
        <p:blipFill>
          <a:blip r:embed="rId1"/>
          <a:stretch/>
        </p:blipFill>
        <p:spPr>
          <a:xfrm>
            <a:off x="250920" y="765000"/>
            <a:ext cx="2495520" cy="374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050920" y="3645000"/>
            <a:ext cx="3935520" cy="2952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Картинка 72 из 189825"/>
          <p:cNvPicPr/>
          <p:nvPr/>
        </p:nvPicPr>
        <p:blipFill>
          <a:blip r:embed="rId3"/>
          <a:stretch/>
        </p:blipFill>
        <p:spPr>
          <a:xfrm>
            <a:off x="5003640" y="907920"/>
            <a:ext cx="2387880" cy="3581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627280" y="1197000"/>
            <a:ext cx="251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меня учёный пёс 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ёс по имени Барбос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в чём-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не прав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омко лает он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АВ-ГАВ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6729"/>
                </a:solidFill>
                <a:latin typeface="Arial"/>
              </a:rPr>
              <a:t>Кошки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665440" cy="1500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Картинка 31 из 189825"/>
          <p:cNvPicPr/>
          <p:nvPr/>
        </p:nvPicPr>
        <p:blipFill>
          <a:blip r:embed="rId2"/>
          <a:stretch/>
        </p:blipFill>
        <p:spPr>
          <a:xfrm>
            <a:off x="3203640" y="1484280"/>
            <a:ext cx="3987720" cy="2989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Картинка 53 из 189825"/>
          <p:cNvPicPr/>
          <p:nvPr/>
        </p:nvPicPr>
        <p:blipFill>
          <a:blip r:embed="rId3"/>
          <a:stretch/>
        </p:blipFill>
        <p:spPr>
          <a:xfrm>
            <a:off x="395280" y="3141720"/>
            <a:ext cx="3378240" cy="2533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211280" y="4868640"/>
            <a:ext cx="30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 усатый, как разбойни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прыгнул подоконни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угал соседских ку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урлыкает: МУР-МУР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6729"/>
                </a:solidFill>
                <a:latin typeface="Arial"/>
              </a:rPr>
              <a:t>Попугаи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744720" cy="2997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Картинка 74 из 189825"/>
          <p:cNvPicPr/>
          <p:nvPr/>
        </p:nvPicPr>
        <p:blipFill>
          <a:blip r:embed="rId2"/>
          <a:stretch/>
        </p:blipFill>
        <p:spPr>
          <a:xfrm>
            <a:off x="4427640" y="1125360"/>
            <a:ext cx="2543040" cy="3810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3189240" cy="23925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52720" y="5300280"/>
            <a:ext cx="367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скажу вам за обедо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о разных, умных слов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рошо ведь быть под пледом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 и вкусен мамин плов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6729"/>
                </a:solidFill>
                <a:latin typeface="Arial"/>
              </a:rPr>
              <a:t>Рыбки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11" name="" descr="Картинка 11 из 166951"/>
          <p:cNvPicPr/>
          <p:nvPr/>
        </p:nvPicPr>
        <p:blipFill>
          <a:blip r:embed="rId1"/>
          <a:stretch/>
        </p:blipFill>
        <p:spPr>
          <a:xfrm>
            <a:off x="468360" y="1268280"/>
            <a:ext cx="2760480" cy="1756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Картинка 12 из 166951"/>
          <p:cNvPicPr/>
          <p:nvPr/>
        </p:nvPicPr>
        <p:blipFill>
          <a:blip r:embed="rId2"/>
          <a:stretch/>
        </p:blipFill>
        <p:spPr>
          <a:xfrm>
            <a:off x="3348000" y="1413000"/>
            <a:ext cx="3909960" cy="2423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Картинка 39 из 166951"/>
          <p:cNvPicPr/>
          <p:nvPr/>
        </p:nvPicPr>
        <p:blipFill>
          <a:blip r:embed="rId3"/>
          <a:stretch/>
        </p:blipFill>
        <p:spPr>
          <a:xfrm>
            <a:off x="611280" y="3573360"/>
            <a:ext cx="3981240" cy="2986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789440" y="4221000"/>
            <a:ext cx="287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ыбкам в банку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ыплют манку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ыбки золотом горя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е из манки спозаранку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рят кашу и твердят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и я от каши той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же буду золот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05:56:54Z</dcterms:created>
  <dc:creator>студент</dc:creator>
  <dc:description/>
  <dc:language>en-US</dc:language>
  <cp:lastModifiedBy>студент</cp:lastModifiedBy>
  <dcterms:modified xsi:type="dcterms:W3CDTF">2012-04-20T06:33:05Z</dcterms:modified>
  <cp:revision>2</cp:revision>
  <dc:subject/>
  <dc:title>Слайд 1</dc:title>
</cp:coreProperties>
</file>